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BBA-DC93-49B7-BD5F-520838C1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896-BCBB-4BAD-A8DB-D7BADFC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926-1DA7-4B67-B524-EC87AB1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5BC-5AD8-4FA8-BFA3-96893F6D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EB9-EC12-4A83-91EF-98B31FF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C5D-0DB2-469F-A3EF-9D1904C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0E8-1805-4795-9F80-13C7C9D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BA3-C613-40BE-8B0C-B8D84E1F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AA7-3E66-43A4-8810-FE9B1070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466-949C-4297-8454-8293A5A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E1-728A-4280-A03C-0EB4DA8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DAA-23D5-4649-A3BB-A6925A8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C9D-BBE7-4A4A-B6A3-8F8D29A36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chlechter Fahrbahn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3" descr="schlechter Fahrbahnrand"/>
          <p:cNvPicPr/>
          <p:nvPr/>
        </p:nvPicPr>
        <p:blipFill>
          <a:blip r:embed="rId1"/>
          <a:stretch/>
        </p:blipFill>
        <p:spPr>
          <a:xfrm>
            <a:off x="2590920" y="2133720"/>
            <a:ext cx="4495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emeinsamer Fuß- und Rad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9" descr="Verkehrszeichen gemeinsamer Fuß- und Radweg"/>
          <p:cNvPicPr/>
          <p:nvPr/>
        </p:nvPicPr>
        <p:blipFill>
          <a:blip r:embed="rId1"/>
          <a:stretch/>
        </p:blipFill>
        <p:spPr>
          <a:xfrm>
            <a:off x="2819520" y="1752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reisverkeh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7" descr="Verkehrszeichen Kreisverkehr"/>
          <p:cNvPicPr/>
          <p:nvPr/>
        </p:nvPicPr>
        <p:blipFill>
          <a:blip r:embed="rId1"/>
          <a:stretch/>
        </p:blipFill>
        <p:spPr>
          <a:xfrm>
            <a:off x="3200400" y="1905120"/>
            <a:ext cx="2514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7" descr="Verkehrszeichen Kreisverkehr"/>
          <p:cNvPicPr/>
          <p:nvPr/>
        </p:nvPicPr>
        <p:blipFill>
          <a:blip r:embed="rId1"/>
          <a:stretch/>
        </p:blipFill>
        <p:spPr>
          <a:xfrm>
            <a:off x="1905120" y="990720"/>
            <a:ext cx="99216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Verkehrszeichen gemeinsamer Fuß- und Radweg"/>
          <p:cNvPicPr/>
          <p:nvPr/>
        </p:nvPicPr>
        <p:blipFill>
          <a:blip r:embed="rId2"/>
          <a:stretch/>
        </p:blipFill>
        <p:spPr>
          <a:xfrm>
            <a:off x="32767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Straßenbahnen oder Linienbusse"/>
          <p:cNvPicPr/>
          <p:nvPr/>
        </p:nvPicPr>
        <p:blipFill>
          <a:blip r:embed="rId3"/>
          <a:stretch/>
        </p:blipFill>
        <p:spPr>
          <a:xfrm>
            <a:off x="2362320" y="1981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Verkehrszeichen Beginn eines Fußgängerbereichs"/>
          <p:cNvPicPr/>
          <p:nvPr/>
        </p:nvPicPr>
        <p:blipFill>
          <a:blip r:embed="rId4"/>
          <a:stretch/>
        </p:blipFill>
        <p:spPr>
          <a:xfrm>
            <a:off x="28954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Verkehrszeichen Vorfahrt Gewaehren"/>
          <p:cNvPicPr/>
          <p:nvPr/>
        </p:nvPicPr>
        <p:blipFill>
          <a:blip r:embed="rId5"/>
          <a:stretch/>
        </p:blipFill>
        <p:spPr>
          <a:xfrm>
            <a:off x="7467480" y="228600"/>
            <a:ext cx="990720" cy="88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Verkehrszeichen Verbot für Fahrzeuge aller Art"/>
          <p:cNvPicPr/>
          <p:nvPr/>
        </p:nvPicPr>
        <p:blipFill>
          <a:blip r:embed="rId6"/>
          <a:stretch/>
        </p:blipFill>
        <p:spPr>
          <a:xfrm>
            <a:off x="7772400" y="236232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Verkehrszeichen Ende Streckenverbote"/>
          <p:cNvPicPr/>
          <p:nvPr/>
        </p:nvPicPr>
        <p:blipFill>
          <a:blip r:embed="rId7"/>
          <a:stretch/>
        </p:blipFill>
        <p:spPr>
          <a:xfrm>
            <a:off x="7467480" y="1219320"/>
            <a:ext cx="11430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Verkehrszeichen Parkscheibe"/>
          <p:cNvPicPr/>
          <p:nvPr/>
        </p:nvPicPr>
        <p:blipFill>
          <a:blip r:embed="rId8"/>
          <a:stretch/>
        </p:blipFill>
        <p:spPr>
          <a:xfrm>
            <a:off x="8001000" y="3809880"/>
            <a:ext cx="914400" cy="122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Schleudergefahr bei Nässe oder Schmutz"/>
          <p:cNvPicPr/>
          <p:nvPr/>
        </p:nvPicPr>
        <p:blipFill>
          <a:blip r:embed="rId9"/>
          <a:stretch/>
        </p:blipFill>
        <p:spPr>
          <a:xfrm>
            <a:off x="2971800" y="4800600"/>
            <a:ext cx="1066680" cy="9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Verkehrszeichen Halteverbot"/>
          <p:cNvPicPr/>
          <p:nvPr/>
        </p:nvPicPr>
        <p:blipFill>
          <a:blip r:embed="rId10"/>
          <a:stretch/>
        </p:blipFill>
        <p:spPr>
          <a:xfrm>
            <a:off x="6705720" y="50292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schlechter Fahrbahnrand"/>
          <p:cNvPicPr/>
          <p:nvPr/>
        </p:nvPicPr>
        <p:blipFill>
          <a:blip r:embed="rId11"/>
          <a:stretch/>
        </p:blipFill>
        <p:spPr>
          <a:xfrm>
            <a:off x="6172200" y="3276720"/>
            <a:ext cx="1447920" cy="83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228600" y="1295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eisverke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152280" y="152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meinsamer Fuß- und Radw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228600" y="2286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raßenbahnen oder Linienbu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304920" y="34290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ginn eines Fußgängerbereic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87692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fahrt gewähr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388620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bot für Fahrzeuge aller 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3962520" y="13716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le Streckenverbote enden                                                               mit diesem Zeich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43434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arken nur mit Parkschei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4876920" y="5181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olutes Halteverb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22860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leudergefahr bei Nässe oder Schmu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4191120" y="32004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lechter Fahrbahn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olutes Haltever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2" descr="Verkehrszeichen Halteverbot"/>
          <p:cNvPicPr/>
          <p:nvPr/>
        </p:nvPicPr>
        <p:blipFill>
          <a:blip r:embed="rId1"/>
          <a:stretch/>
        </p:blipFill>
        <p:spPr>
          <a:xfrm>
            <a:off x="2438280" y="1752480"/>
            <a:ext cx="3754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hleudergefahr bei Nässe oder Schmutz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6" descr="Schleudergefahr bei Nässe oder Schmutz"/>
          <p:cNvPicPr/>
          <p:nvPr/>
        </p:nvPicPr>
        <p:blipFill>
          <a:blip r:embed="rId1"/>
          <a:stretch/>
        </p:blipFill>
        <p:spPr>
          <a:xfrm>
            <a:off x="2438280" y="1981080"/>
            <a:ext cx="4267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ken nur mit Parksche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5" descr="Verkehrszeichen Parkscheibe"/>
          <p:cNvPicPr/>
          <p:nvPr/>
        </p:nvPicPr>
        <p:blipFill>
          <a:blip r:embed="rId1"/>
          <a:stretch/>
        </p:blipFill>
        <p:spPr>
          <a:xfrm>
            <a:off x="3124080" y="1676520"/>
            <a:ext cx="28195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lle Streckenverbote enden mit diesem Zeich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1" descr="Verkehrszeichen Ende Streckenverbote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bot für Fahrzeuge aller 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0" descr="Verkehrszeichen Verbot für Fahrzeuge aller Art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fahrt gewähr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6" descr="Verkehrszeichen Vorfahrt Gewaehren"/>
          <p:cNvPicPr/>
          <p:nvPr/>
        </p:nvPicPr>
        <p:blipFill>
          <a:blip r:embed="rId1"/>
          <a:stretch/>
        </p:blipFill>
        <p:spPr>
          <a:xfrm>
            <a:off x="2819520" y="2133720"/>
            <a:ext cx="3504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eginn eines Fußgängerbereich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4" descr="Verkehrszeichen Beginn eines Fußgängerbereichs"/>
          <p:cNvPicPr/>
          <p:nvPr/>
        </p:nvPicPr>
        <p:blipFill>
          <a:blip r:embed="rId1"/>
          <a:stretch/>
        </p:blipFill>
        <p:spPr>
          <a:xfrm>
            <a:off x="2971800" y="19051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raßenbahnen oder Linienbu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Straßenbahnen oder Linienbusse"/>
          <p:cNvPicPr/>
          <p:nvPr/>
        </p:nvPicPr>
        <p:blipFill>
          <a:blip r:embed="rId1"/>
          <a:stretch/>
        </p:blipFill>
        <p:spPr>
          <a:xfrm>
            <a:off x="281952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27:52Z</dcterms:created>
  <dc:creator>jrodez</dc:creator>
  <dc:description/>
  <dc:language>en-US</dc:language>
  <cp:lastModifiedBy>jrodez</cp:lastModifiedBy>
  <dcterms:modified xsi:type="dcterms:W3CDTF">2010-04-07T16:01:10Z</dcterms:modified>
  <cp:revision>6</cp:revision>
  <dc:subject/>
  <dc:title>J schlechter Fahrbahnrand</dc:title>
</cp:coreProperties>
</file>